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4E6-17FA-4A5A-A6F3-0FF389DB4C63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1A9B-E889-4BE1-8390-38AA34D107D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4028-4186-4326-9D1D-9A615C70975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53D Interoperability Solutions in Earth Science Data Systems: 1:55-2:10 pm What if Finding Data was as Easy as Subscribing to the N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158-C7C7-4B21-A5DC-187DBF717B5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37880" y="299880"/>
            <a:ext cx="73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dvertising your data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dvertising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1947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lecia Alema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Ruth Duerr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National Snow and Ice Data Center, University of Colorado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58720" y="5335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cast your data collec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06440" y="3124080"/>
            <a:ext cx="6324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Fill out a web form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Save it to your web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Add it's link to your 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11" descr=""/>
          <p:cNvPicPr/>
          <p:nvPr/>
        </p:nvPicPr>
        <p:blipFill>
          <a:blip r:embed="rId1"/>
          <a:stretch/>
        </p:blipFill>
        <p:spPr>
          <a:xfrm>
            <a:off x="6654960" y="2666880"/>
            <a:ext cx="5949720" cy="59324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7"/>
          <p:cNvSpPr/>
          <p:nvPr/>
        </p:nvSpPr>
        <p:spPr>
          <a:xfrm>
            <a:off x="1063440" y="8634240"/>
            <a:ext cx="10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http://nsidc.org/libre/share/collectioncaster.htm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http://www.fgdc.gov/meta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http://www.gsdi.org/pubs/cookbook/chapter03a.html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ree Discovery Scenario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’ve deposited your data in an arch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vertising your data is their problem (mostly)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in a directory or regis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on the web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500040" y="2279520"/>
            <a:ext cx="119728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6350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2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3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 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0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64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65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6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67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 to the web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grpSp>
        <p:nvGrpSpPr>
          <p:cNvPr id="772" name="Group 17"/>
          <p:cNvGrpSpPr/>
          <p:nvPr/>
        </p:nvGrpSpPr>
        <p:grpSpPr>
          <a:xfrm>
            <a:off x="1409760" y="2451240"/>
            <a:ext cx="10085400" cy="6718320"/>
            <a:chOff x="1409760" y="2451240"/>
            <a:chExt cx="10085400" cy="6718320"/>
          </a:xfrm>
        </p:grpSpPr>
        <p:pic>
          <p:nvPicPr>
            <p:cNvPr id="773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2451240"/>
              <a:ext cx="10085400" cy="67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12"/>
            <p:cNvSpPr/>
            <p:nvPr/>
          </p:nvSpPr>
          <p:spPr>
            <a:xfrm>
              <a:off x="5877000" y="7093080"/>
              <a:ext cx="1150920" cy="139680"/>
            </a:xfrm>
            <a:prstGeom prst="rect">
              <a:avLst/>
            </a:prstGeom>
            <a:solidFill>
              <a:srgbClr val="133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myData News.org</a:t>
              </a:r>
              <a:endParaRPr b="0" lang="en-US" sz="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6058080" y="7283520"/>
              <a:ext cx="4821120" cy="88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6058080" y="7308720"/>
              <a:ext cx="4902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1 km DEM has been publish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"/>
                  <a:ea typeface="Arial"/>
                </a:rPr>
                <a:t>A Digital Elevation Model (DEM) of Greenland acquired by A. Researcher is available in binary format at a 1 KM grid spacing in a polar stereographic projection ... </a:t>
              </a: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more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Data updat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now available via OpenSearch API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pic>
        <p:nvPicPr>
          <p:cNvPr id="777" name="Picture 16" descr=""/>
          <p:cNvPicPr/>
          <p:nvPr/>
        </p:nvPicPr>
        <p:blipFill>
          <a:blip r:embed="rId2"/>
          <a:srcRect l="1315" t="0" r="1315" b="0"/>
          <a:stretch/>
        </p:blipFill>
        <p:spPr>
          <a:xfrm>
            <a:off x="203040" y="3759120"/>
            <a:ext cx="10401480" cy="2552760"/>
          </a:xfrm>
          <a:prstGeom prst="rect">
            <a:avLst/>
          </a:prstGeom>
          <a:ln w="0">
            <a:noFill/>
          </a:ln>
          <a:effectLst>
            <a:outerShdw dist="127080" dir="540000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1:31Z</dcterms:created>
  <dc:creator>Stevens, Tyler B. (GSFC-610.2)[Affiliate]</dc:creator>
  <dc:description/>
  <dc:language>en-US</dc:language>
  <cp:lastModifiedBy>Ruth Duerr</cp:lastModifiedBy>
  <dcterms:modified xsi:type="dcterms:W3CDTF">2011-12-04T00:41:48Z</dcterms:modified>
  <cp:revision>86</cp:revision>
  <dc:subject/>
  <dc:title>ESIP Federation 101</dc:title>
</cp:coreProperties>
</file>